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95D-1204-46E0-B34E-34F7A9FF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C5D-78CB-408C-8291-CAB90093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112-942A-4666-9A95-0D2F1BD3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0DAA-24D5-4A81-A866-7B14171D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04A8-7C60-4D57-A238-2EC6359A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114B-CD9E-45AC-A499-3340B465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C879-D34D-4191-BAE1-DC6D57EB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073C-DCEA-4234-8FF4-A6382050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A76E-E992-4604-BE87-58B19652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8F14-E861-4D05-ADDD-6BC00AE6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8584-B651-495A-A166-B0DF8272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469-5BC6-4B54-89AA-3DBF9539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50A6-3AEB-40EE-AEF6-61056EEB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FF59-6E29-4FE5-B785-0C2A37D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6246-CA27-4812-872C-BCAABC2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7B12-BA39-4EFD-9732-D8BA2667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382640"/>
            <a:ext cx="2749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6D72-1652-40D0-AE81-88ED9661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8AC-9B01-4563-97BF-52F77003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9946-D7A5-4CB2-A70C-07DB57A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89A-D61D-42FA-9F72-E55BC844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5FB5-AE12-4247-BCFF-AAA36C86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F6AF-886A-4798-8317-BF8D5B9F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38264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D80-BD07-454D-8AA8-2A4C77F2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382640"/>
            <a:ext cx="85406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97D3-89B3-47C5-9680-495344E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FA61-DC21-4F06-94A7-C5505F6C8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944-6BAF-41DB-B65A-8A300A04F1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98072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Chapter 6</a:t>
            </a:r>
            <a:br>
              <a:rPr sz="3000"/>
            </a:b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REPUBLICAN EXPERIMENT</a:t>
            </a:r>
            <a:br>
              <a:rPr sz="4000"/>
            </a:br>
            <a:r>
              <a:rPr b="0" lang="en-US" sz="3000" spc="-1" strike="noStrike">
                <a:solidFill>
                  <a:srgbClr val="ffcc00"/>
                </a:solidFill>
                <a:latin typeface="Arial"/>
              </a:rPr>
              <a:t>A New Political Morality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724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00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atural Rights and the State Constitutio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3364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onstitutions guaranteed natur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reli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the p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al by ju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s weak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ed legislatures given most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ower to the Peo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 for adoption of Constitution pioneered by Massachuse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tion written by a special conven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ification by referendum of th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gers to the new co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succumbed to material temptation and gr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liberty threatened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umbling Toward a New National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for independence required coordination among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government first created to meet wartime need for coord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65440"/>
            <a:ext cx="830556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hn Dickinson’s plan for cent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cession of West to Congress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posed equality in state representation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les of Confederation severely limited central government’s authority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rticles of Confederation: Central Government Structure and Power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had one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ld send two to seven representa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taxing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dments required unanim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charge of foreign and Native American relations, military, and disputes betwee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western 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stern Land: 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Key to the First Constitu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s lost out when British le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land’s ratification of Articles delayed for Virginia’s renunciation of western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81—Virginia took lead in ceding western claims to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states ceded claims to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gained ownership of all land west of Appalachi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estern Land Claims Ceded by the States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533412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rthwest Ordinance: The Confederation’s Major Achievemen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 Ord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erly division of land into sections and tow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section set aside to finance school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nd to sell for minimum of $1 gold per ac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asseh Cutler and the Ohio Compa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rthwest Ordinance: The Confederation’s Major Achievement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west Ordinance, 17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three to five new territories in Northw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of 5000 may elect Assem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of 60,000 may petition for state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 of Right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 outlaw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of the Ohio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lement more chao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iel Boone and Kent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Frankl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Northwest Territ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5043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fining Republican Culture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ism—new core ide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compromising commitment to liberty and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ngelical notions of high public mor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-Revolutionary divi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individual liberty with soci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ing property rights with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ying answers resulted in variety of republican govern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Land Ordinance of 1785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8600" y="2133720"/>
            <a:ext cx="868680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engthening Federal Author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satisfaction with Confed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c recovery after the Revolution s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thought stronger central government would restore economic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Nationalist Critiqu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toration of trade with Britain caused trade deficit and hard currency short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unable to address trade, inflation, and deb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had no power to 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ists versus local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to pay soldiers sparked “Newburgh Conspiracy” (squelched by Washingt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lure of reform prompted nationalists to  consider Articles hopelessly de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iplomatic Humil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failed to get states to collect debts owed British merch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retaliation, British refused to evacuate Ohio River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closed New Orleans to American commerce in 178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Jay to negotiate re-opening Mississipp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ead signed treaty favoring North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and South denounced, Congress rejected Jay-Gardoqui Trea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ave We Fought for This?”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785, the country seemed adri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: “Was it with these expectations that we launched into a sea of trouble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Genius of James Madis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gnition by 1780s of shortcomings in small state republ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dinary citizens not virtuous enough for a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ity did not preserve the property rights of the min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er central government gained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mes Madison persuaded Americans that large republics could be free and democra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eting factions would neutralize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ederalist #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stitutional Reform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1786—Annapolis Convention agreed to meet again, write a new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y’s Rebellion, 17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volt of indebted veter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ized breakdown in law and order as perceived by propertied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strengthened support for new cent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hiladelphia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ed May 178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y-five delegates from all states except Rhode Is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egates possessed wide practical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cy rule imp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te by state, needed only a majority instead of nin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venting a Federal Republic:  The Virginia Pl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2033640"/>
            <a:ext cx="845820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tral government may veto all state 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cameral legislature of state representa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house elected, the other appoi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states would have more representati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ef executive appointed by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states objected to large-state dom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venting a Federal Republic:  The New Jersey Pla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given greater taxing and trade regulation po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would have one vote in a unicameral legisla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cles of Confederation otherwise untouc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ving in the Shadow of R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olution introduced unintended changes into America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social relations challeng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 questions raised about the meaning of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romise Saves the Conven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tate given two delegates in the Senate—a victory for the small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use of Representatives based on population—a victory for the larg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oney bills must originate in the Ho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-fifths of the slave population counted toward representation in the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romising with Slave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65440"/>
            <a:ext cx="822960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 of slavery threatened Convention’s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erners tended to be oppo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ers threatened to bolt if slavery weak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 trade permitted to continue to 18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s the evil is, a dismemberment of the Union would be worse.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James Madison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rcRect l="0" t="0" r="0" b="1380"/>
          <a:stretch/>
        </p:blipFill>
        <p:spPr>
          <a:xfrm>
            <a:off x="685800" y="380880"/>
            <a:ext cx="7772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Last Detai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26—Committee of Detail formed to prepare 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ons to execu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ctoral College selects pres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given a veto over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 may appoint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that Bill of Rights unnecess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e, the Peo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ention sought to bypass vested interests of state legisl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 of ratification to special state conven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itution to go into effect on approval by nine state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rase “We the People” made Constitution a government of the people, not th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se Constitution?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ruggle for Ratif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ers recognized the Constitution went beyond the Convention’s man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ument referred to states with no recomme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ederalis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ed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suggests they supported less of a strong central government than they d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-orga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Federalist Pap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nti-Federalis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ed to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usted any government removed from direct control of the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spected the new Constitution favored the rich and powerfu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ir ideas later reflected in the age of Andrew Jack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gress of Ratif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lear correlation between social status and support for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cceeded in winning ratification in eleven states by June 17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Carolina ratified November 178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hode Island ratified May 17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closed ranks behind the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atification of the Constit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990720" y="1447920"/>
            <a:ext cx="7146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cial and Political Refor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ncinnatus Cri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in laws of inheritance to erase feudal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erty qualifications for voting re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itals moved to enable better representation for frontier sett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church and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ding the Bill of Righ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uit of anti-Federalist activ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ng Bill of Rights forestalled Second Constitutional Con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pose was to protect individual rights from government 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included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dom of assembly, speech, religion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ess, and bearing ar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y trial by a jury of p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unreasonable sear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en amendments added by December 179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uccess Depends on the Peop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mericans complained that the new government had a great potential for despot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s were more optimistic and saw it as a great beginning for the new 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frican Americans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 the New Republic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2033640"/>
            <a:ext cx="792468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t sentiment spread in wake of the Rev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Woo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 embraced Declaration’s stress on natural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 intellectual success made it hard to deny their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jamin Banneker, math and astr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llis Wheatley, poet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African Americans in the New Republic: Emancipation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800, slavery legally dying in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sm and segregation rema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ers debated abo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individuals fre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motives overcame republican ide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 gin breathed new life into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The Challenge of Women’s Rights 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2033640"/>
            <a:ext cx="853416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-Revolutionary trend ended tyranny in the fam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e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ome Thoughts Concerning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demanded the natural right of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rtured proper values through “Republican Motherhood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more assertive in divorce, econom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ied political and legal righ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tates: Experiments in Republicanis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80720"/>
            <a:ext cx="854064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olutionary state constitutions served as experiments in republican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ights gleaned from state experiences later applied to constructing central 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lueprints for State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constitution writers insisted on preparing written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edents in colonial charters, church coven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break with England’s unwritten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8:53Z</dcterms:modified>
  <cp:revision>7</cp:revision>
  <dc:subject/>
  <dc:title>Chapter 6 THE REPUBLICAN EXPERIMENT A New Political Morality</dc:title>
</cp:coreProperties>
</file>